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B482-CCF1-40F5-84D0-CFB1761A2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E496-3524-4E8B-99F6-7C46E7B23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8A70-E9FC-4E91-B3AF-BEA38F461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6129-9494-48DC-9E77-E5813A069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4DE9-658F-45C8-9CF5-FD0A8DF2F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1804-8B49-44BD-99CE-E8275564E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1240-16FB-42C0-9CE3-3C3D63E7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AA4E-8FBE-404D-A92D-560CDC36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5A58-AAA6-4410-A6A4-40E8115F7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8D20-8B5C-4DF5-9E85-B59FC225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D56A-A3EC-4A81-B2E5-6AB77AF4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FFAD-FCC7-4102-9054-82D181F9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36FE-CDF5-40E0-9E6A-0703FFEF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0BAB-AAA0-41A0-963C-9687D5CF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4BD8-AF92-4C57-98E0-C2DB9FD8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5910-1A5B-43AD-9D64-DA9B8030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6325-5B20-42D8-8443-12E59EE3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9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A9B7-53AC-49BA-AAA2-01E8B8BB3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7"/>
          <p:cNvSpPr/>
          <p:nvPr/>
        </p:nvSpPr>
        <p:spPr>
          <a:xfrm>
            <a:off x="395280" y="260280"/>
            <a:ext cx="3024360" cy="43344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Go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マネジャ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24000" y="1052640"/>
          <a:ext cx="8569080" cy="2762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276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明るく声が大きく、思っていることをズバズバ言い、チームに明るいムードをもたらす。目標、業績に興味があるようで、実は興味はなく、部下からも好かれる。少々マナーが悪い部下がいても「こらっ」と怒ることができる。ただ部下には強いが、このマネジャーの上司が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目標達成タイプ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だと「いいかげん」と思われてしまい、失脚してしまうことも多い。逆に上が同じ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GOGO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タイプだとトントン拍子で出世していくことも多い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24000" y="1125360"/>
          <a:ext cx="8569080" cy="2762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276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目標達成に人生のすべてをかける。性格は気が短く、せっかちで、テキパキと仕事をする。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とろい人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は許せず、極端な場合はその人に仕事を回さない。チームとして成績を出し、本人は出世していく確率が高いはずなのだが、チームワークを意識できず（人の意見を聞くのがきらい）、敵を作ることも多く、それで失脚してしまうこともあ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Rectangle 26"/>
          <p:cNvSpPr/>
          <p:nvPr/>
        </p:nvSpPr>
        <p:spPr>
          <a:xfrm>
            <a:off x="395280" y="260280"/>
            <a:ext cx="3024360" cy="43344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目標達成マネジャ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24000" y="1197000"/>
          <a:ext cx="8640720" cy="276228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276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人の和を常に考え、気配りし、仕事のできない人をうまくコーチし、優しさがあって信望が厚い。弱点は決断が遅く、上からも下からも優柔不断に見られてしまうこと。業績が安定していると力を発揮するが、上昇していく時は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GOGO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タイプに、下降気味の時は目標達成タイプにその席を奪われることが多い。それでもチームのため、企業のため、自分はどんな立場でも働いていく心構えができている。一緒に働いている時は意外とわからないが、転勤、転職したりすると「あのマネジャーは良かったなあ」と思われ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" name="Rectangle 27"/>
          <p:cNvSpPr/>
          <p:nvPr/>
        </p:nvSpPr>
        <p:spPr>
          <a:xfrm>
            <a:off x="395280" y="260280"/>
            <a:ext cx="3024360" cy="43344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チームワークマネジャ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50920" y="1268280"/>
          <a:ext cx="8713800" cy="276228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276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論理的でクールで、まじめに仕事をコツコツやる。マネジャーとしては計画力、特に予測力が高く、激動期には比較的力を発揮しやすいが、それ以外ではまわりが彼の力をわからない。どちらかといえば１人で仕事をやる方が本来の力を発揮できるので、マネジャーをあまりやりたがらない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5" name="Rectangle 23"/>
          <p:cNvSpPr/>
          <p:nvPr/>
        </p:nvSpPr>
        <p:spPr>
          <a:xfrm>
            <a:off x="395280" y="260280"/>
            <a:ext cx="3024360" cy="43344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まじめマネジャ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1:15:31Z</dcterms:created>
  <dc:creator>uchiyama</dc:creator>
  <dc:description/>
  <dc:language>en-US</dc:language>
  <cp:lastModifiedBy>内山 力</cp:lastModifiedBy>
  <dcterms:modified xsi:type="dcterms:W3CDTF">2018-05-23T00:56:38Z</dcterms:modified>
  <cp:revision>3</cp:revision>
  <dc:subject/>
  <dc:title>スライド 1</dc:title>
</cp:coreProperties>
</file>